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3C2-E0FC-4781-B238-2B9F7748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55D-C3BC-4F85-A557-B4076CE3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2C0-8DFF-4704-97BB-4F0CAC86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103-19E7-4D6A-97E3-11F2CCD7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5A68-67C5-4880-96B0-A2DDE0A9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01B3-944D-4CF8-9984-5E54FB09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A7EA-0737-4489-A3A9-F21B0C1C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2AD4-7C99-468B-B296-63758FEE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DD05-C97D-4CCA-B498-146CBC9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89080"/>
            <a:ext cx="872964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D499-7BC8-4565-A9A5-A332961B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00AF-9248-44B5-9EC2-A640E6C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43F-F831-4099-A59A-F224685A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8BFE-CF2F-4CAD-8466-C752B7C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FDF9-E649-490C-A137-77563CB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0663-50F3-4DA5-B57E-D5619B4C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F80A-FE81-4832-BD90-ADB3CDAC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6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8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6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8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7D26-300D-4B41-B772-A9FEB273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07E5F-046C-48B8-BA73-76D8E14C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5987-9D43-487E-A7AA-F94367B0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4A40-A318-47CD-B328-EE944181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AA28-F74F-4784-A12A-2D71D28F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B644-07F5-42E8-998B-07604D61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E5E-4E54-4113-A9AC-F3A09490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5280" y="289080"/>
            <a:ext cx="872964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52A24-1831-4859-8E37-D9669091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A272-2721-442F-A81D-50B8C369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B2FF-68F8-425A-8923-A2472B4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37ED-B18F-4DA7-8E9C-01EFF03C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E400B-8E46-4D7F-B6FD-06A6AF96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DC002-BCAA-4FB0-B05F-FBD4722D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6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8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528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6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8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7935-BF79-457F-A72F-E21C341A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A8BE-4F6E-4B98-8CAA-65AC8AC9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ADA4-E1CF-4625-8956-C21B8480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3EBC-4D0C-4C32-8BA8-B494231E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7D8-9007-4FCE-BDA2-C1321DD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E281-BB64-4D4D-9928-5BE208B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F003F-5C4D-4549-A4E7-6096F9B9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5280" y="289080"/>
            <a:ext cx="872964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2A05-24A8-49D0-AD22-CA60413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49EA0-A5C9-4D3A-8A13-CF7DA4C3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9AE6-F09A-4A92-8D30-E552FD3D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99F8-17CF-49C3-B6DE-B976059D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F6E2-2676-40AC-8FEF-10DC134A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F02C-3568-483B-A736-1B10737D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6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88920" y="15159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528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6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88920" y="3535560"/>
            <a:ext cx="2810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AE17-0745-4576-B66F-DAF2BD11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81A-FF93-4FBA-AF34-970FEF67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89080"/>
            <a:ext cx="872964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F7C-9CF0-484C-B422-FC7AD452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A0B-BD89-49A4-9A1E-4F615CE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8640" y="35355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9D3-FD70-4615-B845-70C7D85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8640" y="1515960"/>
            <a:ext cx="425988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535560"/>
            <a:ext cx="8729640" cy="1843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F31-6E71-4D72-ACEF-6D6A08F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960"/>
            <a:ext cx="872964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4640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6396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4604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1FDEE-7D9E-44F2-890E-0700BDCA0960}" type="slidenum"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360" y="585720"/>
            <a:ext cx="81406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360" y="1669680"/>
            <a:ext cx="8521560" cy="324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 fontScale="89000"/>
          </a:bodyPr>
          <a:p>
            <a:pPr marL="3052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05280" indent="-3052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0560" y="5416200"/>
            <a:ext cx="22464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49280" y="5439960"/>
            <a:ext cx="306396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6560" y="5439960"/>
            <a:ext cx="22464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37750-5411-43D5-8629-BC6C2E904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85280" y="1855800"/>
            <a:ext cx="872964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85640" y="5996160"/>
            <a:ext cx="224640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23880" y="5996160"/>
            <a:ext cx="306396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68880" y="5996160"/>
            <a:ext cx="224604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33255-05E8-40CE-8E78-FFFA0ED1D0EE}" type="slidenum">
              <a:rPr b="0" lang="en-IN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2964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85280" y="1515960"/>
            <a:ext cx="87296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85640" y="5718240"/>
            <a:ext cx="224640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23880" y="5718240"/>
            <a:ext cx="306396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68880" y="5718240"/>
            <a:ext cx="224604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17776-438F-40E1-A6E2-03FE2235DF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r. Ramachandra H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BBS MS(Ortho) MSc(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dhava Day-care Fracture Surge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Lower Hut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BHADRAVATHI 5773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ww.rammedisoft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obile 944892189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How to register a new patien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o add new customer or patient, press Ctrl and + ke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79440" y="2911320"/>
            <a:ext cx="70009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Add New Customer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79704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'Registration First' module as shown below appe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Tab key to move from one field to an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n the Sex field enter 'f' or 'm' and press Tab Key to go to Age fiel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2360" y="2773440"/>
            <a:ext cx="898200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Age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85640" y="1371600"/>
            <a:ext cx="874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 fontScale="99000"/>
          </a:bodyPr>
          <a:p>
            <a:pPr marL="411480" indent="-30780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Once the focus is on Age, following screen comes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1480" indent="-30780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After you enter Age  press Enter once or Twi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038320" y="2073240"/>
            <a:ext cx="530532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70920"/>
            <a:ext cx="87454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New 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31640" y="582480"/>
            <a:ext cx="874584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omplete entries in all needed field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know the case paper number or Register Number enter it in the place marked below. </a:t>
            </a:r>
            <a:r>
              <a:rPr b="0" lang="en-IN" sz="2000" spc="-1" strike="noStrike">
                <a:solidFill>
                  <a:srgbClr val="000000"/>
                </a:solidFill>
                <a:latin typeface="Times New Roman"/>
              </a:rPr>
              <a:t>If you do not know reg no, leave it bla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S to save and clo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87280" y="2638440"/>
            <a:ext cx="911556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How to find the old customer registered in the compute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patient has brought old records and if you get the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ustomer-ID, then do not search. Directly go to billing se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patient has not brought old customer-ID then you have to search here. Press 'F6' key or click the 'Find' butt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511280" y="4265640"/>
            <a:ext cx="62769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2400" y="12240"/>
            <a:ext cx="873252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Searching for Old Patien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5480" y="791640"/>
            <a:ext cx="87328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When you click the 'Find' button or press 'F6' key following search window appe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360440" y="1722600"/>
            <a:ext cx="684684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2400" y="12240"/>
            <a:ext cx="873252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Searching for Old Patien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5480" y="791640"/>
            <a:ext cx="87328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enter full name or part of name in the fields as below.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'Alt + Q' keys on key board or Click 'Query..' button twi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087640" y="1655640"/>
            <a:ext cx="6846840" cy="461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82400" y="12240"/>
            <a:ext cx="873252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Searching for Old Patien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666360"/>
            <a:ext cx="87328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Following result window appears. Select any one of the results and press 'Enter' key. You will get the results in the customer  registration wind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28720" y="194472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2400" y="12240"/>
            <a:ext cx="873252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Searching for Old Patien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666360"/>
            <a:ext cx="87328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For example I select Rama Naik and Dashrath Naik. And double click on it, to get the following resul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89080" y="1935000"/>
            <a:ext cx="9720000" cy="1089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From 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4404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D to go to Day-Care billing from customer re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Ctrl + 2 + D to go to In-Patient Registration from customer re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160720" y="3024360"/>
            <a:ext cx="4895640" cy="295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Double click the Rammedisoft Icon on Desktop to St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If you can not double click, click once and press En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92360" y="2664000"/>
            <a:ext cx="4187880" cy="3311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640" y="64764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Give your user ID if it is not ther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ress Enter and give your password. Then press Enter or Click 'OK' butt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39720" y="1941480"/>
            <a:ext cx="6667560" cy="4610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0960" y="71280"/>
            <a:ext cx="87343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Log I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0960" y="953640"/>
            <a:ext cx="873432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not log in, if Caps Lock in key board in 'On'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Keeping Caps Lock on and typing with capital letters is a bad habit. You should never type names with capital lett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4360" y="2519280"/>
            <a:ext cx="57052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08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Duty Hours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40800" cy="387684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You can not log in before or after your duty hou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27400" y="2276640"/>
            <a:ext cx="5484960" cy="362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Rammedisoft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Main Scre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224000" y="2013120"/>
            <a:ext cx="6664320" cy="410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Main Scree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Parts of main screen Title , Men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66960" y="2519280"/>
            <a:ext cx="450540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415800" indent="-31104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trl + 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421000" y="1843200"/>
            <a:ext cx="488628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5640" y="73080"/>
            <a:ext cx="874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800" spc="-1" strike="noStrike">
                <a:solidFill>
                  <a:srgbClr val="000080"/>
                </a:solidFill>
                <a:latin typeface="Times New Roman"/>
              </a:rPr>
              <a:t>Customer Registration</a:t>
            </a:r>
            <a:endParaRPr b="0" lang="en-US" sz="3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5640" y="791640"/>
            <a:ext cx="874728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 fontScale="78000"/>
          </a:bodyPr>
          <a:p>
            <a:pPr marL="324000" indent="-2422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ere are three situ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796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1. The patient can be a new patient for the hospital and not registered in the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796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2. The patient can be a old patient of the hospital and not registered in this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796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3. The patient can be a old patient of the hospital and already registered in this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242280">
              <a:lnSpc>
                <a:spcPct val="95000"/>
              </a:lnSpc>
              <a:spcAft>
                <a:spcPts val="1213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The patients registered in the computer sometimes do not bring their old records and you will not have their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ustomer-ID. In that case you have to find their </a:t>
            </a:r>
            <a:br>
              <a:rPr sz="2700"/>
            </a:br>
            <a:r>
              <a:rPr b="0" lang="en-IN" sz="2700" spc="-1" strike="noStrike">
                <a:solidFill>
                  <a:srgbClr val="000000"/>
                </a:solidFill>
                <a:latin typeface="Times New Roman"/>
              </a:rPr>
              <a:t>customer-ID in this modu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3:48:51Z</dcterms:created>
  <dc:creator>Ramachandra HM</dc:creator>
  <dc:description/>
  <dc:language>en-US</dc:language>
  <cp:lastModifiedBy/>
  <cp:lastPrinted>2014-02-20T10:35:46Z</cp:lastPrinted>
  <cp:revision>1</cp:revision>
  <dc:subject/>
  <dc:title/>
</cp:coreProperties>
</file>