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504-0D2E-4E3D-8F4C-084171E0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78A-A47E-42CB-9211-AF5ABAF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259-99CC-49FC-B7A8-E7C2B82C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378-D0A2-4E98-8CC8-55D57755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4EA5-1037-4A28-829F-1922FBF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AC14-2790-4BE9-9E49-EF4B860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561D-171F-449A-B50E-631EF58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F65-938C-4D22-BA42-B8337942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B508-F9ED-42C3-A1B7-A1C0866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5125-C2FA-477F-A382-F9562B88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06AC-4E5C-4188-B83B-6AB8DD5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2F0-BDC0-4A37-902A-B4265A8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15E7-BB7A-424B-A8D5-7532B87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116-F6FA-404A-8EBD-250393C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F8A-8EC8-432E-885B-928003D8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DAF5-BB2A-48F1-82C1-1487EBC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828-BF31-42E7-8AB7-D9903733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BCC5-566C-4100-9CCA-A365AC71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BFF6-0337-4F55-8884-04B20D3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C99A-C2FA-4C15-9517-CFB86B6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6611-1D64-436F-955E-D184B09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3053-FA98-49A1-87CA-C2A838C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C40-E324-43B1-8BF4-FBEDB21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A947-DB4F-4E13-8C56-EBC34AA7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16D6-FDB1-4A40-9EC6-2EF3BAD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A75B-0B98-47B6-8FD1-E81A6AA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F713-53E6-436B-9935-7181B4E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E118-1FF9-47D2-A7C2-11AB7FF4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0DFB-BC39-4786-A2F5-3FED16D7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F3D5-3486-45F0-9B41-FB543236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7274-704B-4DD8-ADA1-4CCB4C85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7C8A-04D4-40CB-B482-B962F09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D456-4824-4248-A488-9EA3FE65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AA4-F8EC-40D3-9E3C-5CA9014B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6966-723B-4B79-BA27-4CF029D2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A1E5-EDC8-4E9F-8978-B1AD193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4E47-7A74-4B10-A539-515E570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2513-3CBC-42ED-A817-68E11CF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32FA-B180-4A70-8C56-7E7B935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B2CA-3C13-46CE-9C61-3F5138C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3EEC-9AA5-4A4E-A6CD-5C140987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BB9D-E94F-4187-AF48-F4B73EF6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872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800" y="151560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872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800" y="3537360"/>
            <a:ext cx="2812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6976-A5DB-4EE5-9B18-0B232FBE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809-0312-457B-8E54-187D0CC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346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766-A218-4795-8889-9DF27974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C3B-F579-434D-B842-06D7EC69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160" y="353736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6DA-593E-41ED-8F09-5660217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160" y="1515600"/>
            <a:ext cx="426240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7360"/>
            <a:ext cx="87346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FB3-BFEF-4D26-9D6D-1050306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468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468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E94D8-9624-49CE-9953-94488BA45DED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85360"/>
            <a:ext cx="81453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70040"/>
            <a:ext cx="852660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200" y="541656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640" y="544032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200" y="544032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83CF-DACF-4225-89DE-15804999DF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468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440"/>
            <a:ext cx="87346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95800"/>
            <a:ext cx="225108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95800"/>
            <a:ext cx="306864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5800"/>
            <a:ext cx="225108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9151A-ADB5-473D-979A-D975B3B796A3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3468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468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71824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718240"/>
            <a:ext cx="30686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5108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7D14D-56CC-4A08-A4DA-916A2B97C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ge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371600"/>
            <a:ext cx="874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416520" indent="-3128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nce the focus is on Age, following screen come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6520" indent="-3128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enter Age  press Enter once or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38320" y="2073240"/>
            <a:ext cx="53053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2520" y="-360"/>
            <a:ext cx="8745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7280" y="798480"/>
            <a:ext cx="874548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mplete entries in all needed fields and press Ctrl + S to cl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1640" y="1739880"/>
            <a:ext cx="9001440" cy="373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D to go to Day-Care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60720" y="3024360"/>
            <a:ext cx="489564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494080" y="2487600"/>
            <a:ext cx="47433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280" y="12330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27280" y="2189160"/>
            <a:ext cx="35276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84600" y="2087640"/>
            <a:ext cx="409248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do not decide on payment in a bill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672000" y="187164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6920" y="1364760"/>
            <a:ext cx="8742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marked (0.00 payment (Credit Billing) or partly paid or fully paid), it is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84720" y="2232000"/>
            <a:ext cx="3959280" cy="4103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36720" y="331164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42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Bills and Receipt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Rammedisoft first bills are generated. After payment is done a receipt is genera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ven if a bill is not paid, you can print it. But on the printout it will be mentioned as bal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print a bill after payment is marked, it is showed as paid in the printo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payment is not marked (0.00 payment (Credit Billing) or partly paid or fully paid), it is not possible to generate lab re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ing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ome here from customer registration, the particular patient's bills get open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a bill has been done, it will open the last bill of the customer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No bill has been made, it will create a new bi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51080" y="2952720"/>
            <a:ext cx="340056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ouble click the Rammedisoft Icon on Desktop to 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an not double click, click once and press E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92360" y="2664000"/>
            <a:ext cx="418788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1920" y="83880"/>
            <a:ext cx="87440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-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1280" y="94428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Example of last bill of a custom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47640" y="1440000"/>
            <a:ext cx="878364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7680" y="144360"/>
            <a:ext cx="8743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600" spc="-1" strike="noStrike">
                <a:solidFill>
                  <a:srgbClr val="000080"/>
                </a:solidFill>
                <a:latin typeface="Times New Roman"/>
              </a:rPr>
              <a:t>Day-Care Bill Maker </a:t>
            </a:r>
            <a:br>
              <a:rPr sz="2600"/>
            </a:br>
            <a:r>
              <a:rPr b="0" lang="en-IN" sz="2600" spc="-1" strike="noStrike">
                <a:solidFill>
                  <a:srgbClr val="000080"/>
                </a:solidFill>
                <a:latin typeface="Times New Roman"/>
              </a:rPr>
              <a:t>New Bill Started from Customer Registratio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a new bill is created for that customer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2 times to add a new it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0480" y="2016000"/>
            <a:ext cx="794880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1600" y="1080"/>
            <a:ext cx="874368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4680" y="1008000"/>
            <a:ext cx="874368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hange the item (particulars) by pressing up and down arrow on key boar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521000" y="2160720"/>
            <a:ext cx="654336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go to Rated field to change the rate, if allowed. If the original rate is in Red colour it is not chagea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n press Tab key to go to quantity field if you want to change the quant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21000" y="3024360"/>
            <a:ext cx="625608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a new item press  Ctrl and Plus ke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20720" y="1343160"/>
            <a:ext cx="784872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4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1280" y="799920"/>
            <a:ext cx="874404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have completed creation of the Day Care Bill,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 Ctrl + M key to make pay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92280" y="2016000"/>
            <a:ext cx="6256440" cy="382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5280" y="1440"/>
            <a:ext cx="874404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-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1280" y="79200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king Payments. If amount is correct and you have collected cash just press Enter to complete pay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16000" y="1820880"/>
            <a:ext cx="5791320" cy="45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there is any concession click 'Referer's Concession'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39880" y="2448000"/>
            <a:ext cx="6394320" cy="369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9600" y="71280"/>
            <a:ext cx="87440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71600" y="93636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ill fields according to your need and click Calculate button and then click Use butto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rresponding concession will be calculated and goes to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303640" y="2448000"/>
            <a:ext cx="530532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 have given concession of Rs 30 and I clicked Calculate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92400" y="2376360"/>
            <a:ext cx="534348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640" y="6476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your user ID if it is not ther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and give your password. Then press Enter or Click 'OK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39720" y="1941480"/>
            <a:ext cx="666756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lick the Use button, it asks for reason for concess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reason and press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146320" y="2984400"/>
            <a:ext cx="5438880" cy="70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 - Concession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inal concession comes into receipt. Press Enter key to accept the receip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79640" y="2160720"/>
            <a:ext cx="613404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Care Bill Mak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it is done press Ctrl + F12 Key to pri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27000" y="1306440"/>
            <a:ext cx="803268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t day end take a print out of your summary, and submit ca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36720" y="1224000"/>
            <a:ext cx="7500960" cy="492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pen Day-care Billing -&gt; Day-care Bill Analys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89320" y="1671480"/>
            <a:ext cx="6754680" cy="459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Dates by double clicking on the dates. Click 'Get Data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40000" y="1655640"/>
            <a:ext cx="6975360" cy="451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ills done by you will be visible in summary as bel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024360" y="1295280"/>
            <a:ext cx="508608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36720" y="1655640"/>
            <a:ext cx="7991280" cy="432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multipage printing tool, click 'Double Column'. And then select 'All' pages. Then click 'Print'. That will print summary in two columns in A4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31640" y="2016000"/>
            <a:ext cx="907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7272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ay End - Day-care Bill Analysi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44680" y="799920"/>
            <a:ext cx="874368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inting in one column can be done directly by clicking 'Print' button. If two column printing is needed, click 'Range Print'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36720" y="1655640"/>
            <a:ext cx="7991280" cy="432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08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uty Hour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0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 before or after your duty hou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27400" y="2276640"/>
            <a:ext cx="548496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losing and Back UP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ile closing the program asks for your permission to back up. Press Enter key to  make a back 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798640" y="2735280"/>
            <a:ext cx="42577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80640"/>
            <a:ext cx="873756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In-patient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5280" y="734760"/>
            <a:ext cx="8737560" cy="38732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Register patient as usual. Give preexisting register number or file number if already known, as shown below. If it is not known leave it blan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87280" y="1971720"/>
            <a:ext cx="901080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24000" y="2013120"/>
            <a:ext cx="6664320" cy="41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Main Scree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arts of main screen Title , Men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766960" y="2519280"/>
            <a:ext cx="450540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trl +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21000" y="1843200"/>
            <a:ext cx="488628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dule Scree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new customer, press Ctrl and + ke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79440" y="2911320"/>
            <a:ext cx="70009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dd New Custom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7970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move from one field to an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the Sex field enter 'f' or 'm' and press Tab Key to go to Age fiel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3840" y="2376360"/>
            <a:ext cx="89438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2-20T10:35:46Z</cp:lastPrinted>
  <cp:revision>1</cp:revision>
  <dc:subject/>
  <dc:title/>
</cp:coreProperties>
</file>