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C45-8B4C-496C-A406-9BAF0BE9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824-C94B-44DE-98E8-2805886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6F3-606B-444C-8ADD-DA32BE5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4A-9B7D-4208-947A-2772073D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79EE-BB59-456C-A070-D7339E70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C7A-7E1D-43D6-838B-1A0BC56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29B-83FA-4D2A-AD93-E3A48CDF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965D-E0D4-4EB8-A9C6-671EC7A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208A-FFD7-4BEC-B378-BDF02FC3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5A6-A671-4600-94C6-0073B45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F5C-5FBB-4AE5-A738-69DD989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2E7-EAC2-4380-B896-12BCF5C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6865-BD84-4260-AAF9-E6C3E07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044E-E7F2-46D0-BBD8-43396A6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41E-0800-4092-AD82-A61027D7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304-5905-44D9-96FA-7C052445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FA5-78A3-46A8-AA3B-F078E0E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2E3F-32B7-4D07-95AD-AA6DE018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4B0D-35CE-4160-91E0-FF0E1E9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20D4-444E-47A1-96B3-18B7B01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201F-A3AC-4C2E-8E68-1A60C1B0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C9C3-3A88-44A1-9C71-DE91B17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B9E-8142-40F6-9EA6-ECF2653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9615-7E8D-4115-A6B0-589C220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6F1D-532C-4B06-87BA-7DB2F2FB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F63E-3E19-49C9-833D-2BB7522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260E-A079-4070-A85E-D432D6A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3320-0853-458D-A664-22673CA1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85B3-A8B4-4086-A0DA-8136B9D8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B2EA-AE05-495B-921C-4271F641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9B2F-3268-4261-9DDF-6F9BC271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96F0-0913-47F8-A015-9CC8935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A7FA-677D-4411-957A-E06E55A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414-F32B-4157-A596-98FB0A3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1491-5EE4-4FBD-AD68-78EEB51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1A3E-83AC-42DE-BF08-55C97D31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E21A-06EA-4922-9521-551E150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8571-7E94-4C3D-AED1-C5A0814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411A-3944-48E8-9DF1-1ABC137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C37D-86C5-44F2-8B54-90B2FC8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D4E8-0A3C-40B0-AF05-B8E64A8C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E5DB-9590-494C-8BF8-934ADA16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584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6760" y="151560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584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6760" y="3533040"/>
            <a:ext cx="280980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FC4A-7164-4998-A6E3-E44BE969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7BB-5C18-4987-9364-C854B53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2676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04B-D898-4C4D-B454-120BD8FD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B30-09C5-43B2-8354-09280A2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53304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627-B11F-4BE7-AD10-2B95FA5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515600"/>
            <a:ext cx="42584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3040"/>
            <a:ext cx="87267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208-963E-49BF-906B-FADD794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267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3E9B5-94B2-4F34-A375-AC6233773B2C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85360"/>
            <a:ext cx="81374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70040"/>
            <a:ext cx="8518680" cy="3246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200" y="541656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640" y="544032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200" y="544032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0BD56-3F0A-48E4-89B7-DA8EC54F0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440"/>
            <a:ext cx="872676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95800"/>
            <a:ext cx="224316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95800"/>
            <a:ext cx="306072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5800"/>
            <a:ext cx="224316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42C9E-C1BB-4498-AF37-6E7137272531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2676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2676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71824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718240"/>
            <a:ext cx="30607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431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3BCEB-91BF-4A32-934C-DC337FE5D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8731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5640" y="122400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he Admission Register modul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From the menu 'File' –&gt; 'In Patient Administration' –&gt; 'Admission Register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From Customer Registration modul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1. Going to Admission Register Directly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come to IP Registration, directly as below. This is usually needed to disharge patients, already admit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84360" y="2592360"/>
            <a:ext cx="6467400" cy="3524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640" y="19368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ischarge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744120"/>
            <a:ext cx="8731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case sheet is brought for IP Billing at the time of dischar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Open Admission Register from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Open the registration entry of that case sheet by searching for the pati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3. You can search for the patient by DOA, byY IP no, by Customer ID and by DOA not discharged patients on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4. Save the entry. Click 'Bills' to go to make 'Discharge Bil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52360" y="3673440"/>
            <a:ext cx="7560000" cy="165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Admission Register 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Registration from customer reg or click the 'IP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409760" y="2519280"/>
            <a:ext cx="64389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Going to IP Registration 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no IP no has been alloted to that customer ID, program gives a message as below and if you click Yes, a new IP no will be cre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16000" y="2448000"/>
            <a:ext cx="820764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640" y="229680"/>
            <a:ext cx="8731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2920" y="1008000"/>
            <a:ext cx="873108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s from the previous example, if you click yes, following message comes. It gives today's date in YYMMDD form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n you can just type over it with a new 'In Patient number'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o to the begining of the date – by clicking 'Home' button and type the register number of the patient to create a new 'In Patient number'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5360" y="1944720"/>
            <a:ext cx="71182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31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et us assume that I typed '5678-B-' before the date and clicked 'Ok' button or pressed 'Enter' key. The patient from customer registration is admitted as below. You have to click Ctrl + S key to save the rec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button, named 'Bills' appears on saving. Date of discharge will be marked as 1-1-1900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4360" y="3162240"/>
            <a:ext cx="9087120" cy="173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Going to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o IP Bill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Directly from menu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From Admission Regis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1. Going to IP Bill Maker 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irectly from menu 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314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go to IP Billing directly through the menu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'File' –&gt; 'Billing' –&gt; 'IP Billing' –&gt; 'IP Bill Maker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is is usually used, when an already registered patient needs to be discharged, and to be given 'Discharge Bill' or 'IP Bill'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714680" y="2519280"/>
            <a:ext cx="61322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IP Bill Maker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1280" y="3456000"/>
            <a:ext cx="8874360" cy="2803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lick the button 'Bills', it will open IP Billing module. Short cut 'Ctrl + D'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double click on DOD (Date of Discharge), todays date and time will come as date of dischar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7600" y="1440000"/>
            <a:ext cx="90867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not marked (0.00 payment (Credit Billing) or partly paid or fully paid)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640" y="271440"/>
            <a:ext cx="8731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2. Going to IP Bill Maker</a:t>
            </a:r>
            <a:br>
              <a:rPr sz="3800"/>
            </a:b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In 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280" y="3456000"/>
            <a:ext cx="8874360" cy="2803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Soon after the admission, you can issue 'Advance' bill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the date of discharge is marked, you can issue 'Discharge Bill' or 'IP Bill'. (And still can issue Advance Bill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17600" y="1440000"/>
            <a:ext cx="90867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8731440" cy="5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6000" y="1152000"/>
            <a:ext cx="8731080" cy="386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ome here from Admission Register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If you have not made any bill for this patient,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. If you have not discharged the patient, IP Bill Maker opens with 'Advance' billing status.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. If you have dicharged the patient, the IP Bill Maker opens with a new IP Bill or Discharge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If a bill has been done, IP Bill Maker will open the last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5280" y="146160"/>
            <a:ext cx="874404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1520" y="885960"/>
            <a:ext cx="87440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go to IP billing module from In-Patient registration by clicking the button 'Bills'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lready a bill has been made for that customer, this module will open the last bill of the customer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024360" y="2849400"/>
            <a:ext cx="3400200" cy="168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here from Admission Register and no bill has been made and you have not discharged the patient, it will ask whether you want to issue Advance Payment Bill ? As shown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52720" y="2952720"/>
            <a:ext cx="60483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6000" y="1152360"/>
            <a:ext cx="8731080" cy="557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lick 'Yes' you get an option to enter the amount of advance to be entered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ver type on the amount of advance and click 'Enter' key to complete the process.</a:t>
            </a:r>
            <a:br>
              <a:rPr sz="2700"/>
            </a:br>
            <a:r>
              <a:rPr b="0" lang="en-IN" sz="2000" spc="-1" strike="noStrike">
                <a:solidFill>
                  <a:srgbClr val="000000"/>
                </a:solidFill>
                <a:latin typeface="Times New Roman"/>
              </a:rPr>
              <a:t>You can see customer ID and IP no and Name etc have come here automatically and are not editable (r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89080" y="2016000"/>
            <a:ext cx="665964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5640" y="19368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1640" y="72072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t directly goes to payment (receipt) section. Click 'Enter' or 'Ctrl + S' to complete. If it is not 'Cash' payment, select other options. Otherwise all other options wont work here. Click 'Save' to complete the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0720" y="2376360"/>
            <a:ext cx="890928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640" y="157320"/>
            <a:ext cx="87314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 - Print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936720"/>
            <a:ext cx="8731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lick 'Send to Print' button or press Ctrl + F12 keys to pri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152360" y="1670040"/>
            <a:ext cx="70963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5640" y="289080"/>
            <a:ext cx="873144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dvance payment for services – bill cum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82920" y="2098800"/>
            <a:ext cx="3276360" cy="3876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t day end take a print out of your summary, and submit ca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19320" y="1622520"/>
            <a:ext cx="73436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pen IP Billing -&gt; IP Bill Analys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97080" y="1728720"/>
            <a:ext cx="7343640" cy="384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 This applies to both OP and IP bill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94080" y="2487600"/>
            <a:ext cx="47433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Dates by double clicking on the dates. Click 'Get Data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871640" y="1757520"/>
            <a:ext cx="6039000" cy="299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ills done by you will be visible in summary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024360" y="1295280"/>
            <a:ext cx="508608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681200" y="2087640"/>
            <a:ext cx="6419880" cy="3790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IP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multipage printing tool, click 'Double Column'. And then select 'All' pages. Then click 'Print'. That will print summary in two columns in A4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31640" y="2016000"/>
            <a:ext cx="907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losing and Back UP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ile closing, if the program asks for your permission to back up, Press Enter key to  make a back 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798640" y="2735280"/>
            <a:ext cx="42577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5280" y="12330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527280" y="2189160"/>
            <a:ext cx="35276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yment in a OP bill is not decided, it is not possible to generate lab reports from that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111640" y="1944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marked (0.00 payment (Credit Billing) or partly paid or fully paid), it is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84720" y="2232000"/>
            <a:ext cx="395928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36720" y="331164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8731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P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1224000"/>
            <a:ext cx="87314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make a IP bill of a patient  ONLY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after first registering him or her in Customer Registration </a:t>
            </a:r>
            <a:r>
              <a:rPr b="1" lang="en-IN" sz="2700" spc="-1" strike="noStrike">
                <a:solidFill>
                  <a:srgbClr val="000000"/>
                </a:solidFill>
                <a:latin typeface="Times New Roman"/>
              </a:rPr>
              <a:t>and then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registering him or her as In-Patient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-Patient registration is done in 'Admission Register', which is also called 'In Patient Registration' Modu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6-26T15:25:47Z</cp:lastPrinted>
  <cp:revision>1</cp:revision>
  <dc:subject/>
  <dc:title/>
</cp:coreProperties>
</file>